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418B0-7BC0-4D28-BD48-89F0BFF00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9F9B-846B-48D7-BF5C-8514A204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F87C9-1FE7-419A-8FB2-D139F945C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90F58-C0D1-4DDE-8CFF-24347BD39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D27C1-4735-4E93-B662-973AA9A15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CFE66-4C0E-40AF-A500-C859EE4FC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D0486-87E5-49D9-95A3-DC6CB3855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12DA4-6BC3-4A1A-9D6C-C177F89D4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2FEDC-F65D-445A-BD3C-17EE52346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EC3E9-6D2F-4B48-B540-22FF8D4F3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C778F-1833-498D-AAF7-3716DAFCD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7F980-BA10-4AB9-AD05-73E34EA70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B6909-53E0-416E-B3E5-0CE394CDE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2E223-A4A5-42BD-B0C0-4816C5B12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47426-6501-4262-AA3D-C44073EEE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0BB6F-81EE-434E-B71F-91FAC7537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FE1FF-3AB3-4BFF-942A-ED000DF5A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12D4-9B0D-43C7-81C3-DEE71D65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2D36F-155D-468B-B415-41E9B438B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1BD20-BE51-45B2-B0FD-3D5FC4EE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241C-2CC9-4D01-9496-2CF7F12C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FA34-0A88-4D98-91F1-D3BAF953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EAF1-BF20-4072-8FD7-A202075E4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11DE-7057-4654-A82A-2F003B2B3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3B10-2B27-4B45-9CF6-80F6F5F3C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617E-104B-4961-B192-B31E31AA6A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Toxicology</a:t>
            </a:r>
            <a:br>
              <a:rPr sz="4800"/>
            </a:br>
            <a:r>
              <a:rPr b="0" lang="en-US" sz="4800" spc="-1" strike="noStrike">
                <a:solidFill>
                  <a:srgbClr val="dbbd71"/>
                </a:solidFill>
                <a:latin typeface="Arial"/>
              </a:rPr>
              <a:t>&amp;</a:t>
            </a:r>
            <a:br>
              <a:rPr sz="4800"/>
            </a:br>
            <a:r>
              <a:rPr b="0" lang="en-US" sz="4800" spc="-1" strike="noStrike">
                <a:solidFill>
                  <a:srgbClr val="dbbd71"/>
                </a:solidFill>
                <a:latin typeface="Arial"/>
              </a:rPr>
              <a:t>Drug Analysis</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of drugs, poisons, and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toxic substanc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useful for sampl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entrations of toxins connected to effect on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rin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dneys  -filter waste and toxins from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often more concentrated in urine than in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t be used to estimate concentrations in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 the Urine…</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entration of toxin  depends on how much urine is produc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ink lots of water – toxins dilut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hydrated- toxins concentr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tomach contents</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xins don’t correspond to blood level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use a gastric tube through the nose to collect a sampl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ad – cut into stomach to collect a samp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ver</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s and toxins metabolized (broken down) in the liv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may remain in liver when gone from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itreous humor</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quid in ey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stant to putrefaction (deca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er-soluble toxins found he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g behind blood levels by 1-2 h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ir</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sorbs heavy metal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senic, lead, thallium</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give a timeline of when the toxin appeared in the system</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case: Robert Curley from Wilkes-Bar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sect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d on corps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s concentrate in tissues of the insec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analyze the insects to determine what toxins were in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D. vs M.O.D.</a:t>
            </a:r>
            <a:endParaRPr b="0" lang="en-US" sz="4400" spc="-1" strike="noStrike">
              <a:solidFill>
                <a:srgbClr val="dbbd71"/>
              </a:solidFill>
              <a:latin typeface="Arial"/>
            </a:endParaRPr>
          </a:p>
        </p:txBody>
      </p:sp>
      <p:sp>
        <p:nvSpPr>
          <p:cNvPr id="187"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of death – what caused the person to d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 attack, bullet wound, head trauma, kidney failure, etc.</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s and poisons are considered “contributing factors”</a:t>
            </a:r>
            <a:endParaRPr b="0" lang="en-US" sz="24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ner of death – how did the person d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 cause, accidental, intent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ause of death</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one with coronary artery disease (CAD) takes amphetamines or coca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t rate increases, causing a heart atta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of death = heart attack with drugs being a contributing fac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Analysis Labs</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forensic drug testing for illicit drugs seized by law enforcement agencies,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ort investigations of the FDA (Food and Drug Administration) regarding drug diversions,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suspected tampering events.</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nner of Death</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 the death a natural death or an accid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if the amount of drug was low and the victim had severe CAD, the manner of death would be “natura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If the drug level was high and the CAD was mild, the manner of death would be “accid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mmon Causes of </a:t>
            </a:r>
            <a:br>
              <a:rPr sz="4000"/>
            </a:br>
            <a:r>
              <a:rPr b="0" lang="en-US" sz="4000" spc="-1" strike="noStrike">
                <a:solidFill>
                  <a:srgbClr val="dbbd71"/>
                </a:solidFill>
                <a:latin typeface="Arial"/>
              </a:rPr>
              <a:t>Accidental Poisoning</a:t>
            </a: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 often curious about chemicals in the home</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s –mislabeled medicine containers</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derly - Dose miscalculation or dangerous mixtures of prescrip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micide by poisoning</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common to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 poisoning case, often the killer is someone who will know victim’s habi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Family memb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caretak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RESUMPTIVE</a:t>
            </a:r>
            <a:endParaRPr b="0" lang="en-US" sz="4800" spc="-1" strike="noStrike">
              <a:solidFill>
                <a:srgbClr val="ffffff"/>
              </a:solidFill>
              <a:latin typeface="Tahoma"/>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vs</a:t>
            </a:r>
            <a:endParaRPr b="0" lang="en-US" sz="4800" spc="-1" strike="noStrike">
              <a:solidFill>
                <a:srgbClr val="ffffff"/>
              </a:solidFill>
              <a:latin typeface="Tahoma"/>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ONFIRMATORY </a:t>
            </a:r>
            <a:endParaRPr b="0" lang="en-US" sz="4800" spc="-1" strike="noStrike">
              <a:solidFill>
                <a:srgbClr val="ffffff"/>
              </a:solidFill>
              <a:latin typeface="Tahoma"/>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EST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esumptive Tests for Toxins</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resumptive tests</a:t>
            </a:r>
            <a:r>
              <a:rPr b="0" lang="en-US" sz="3200" spc="-1" strike="noStrike">
                <a:solidFill>
                  <a:srgbClr val="ffffff"/>
                </a:solidFill>
                <a:latin typeface="Tahoma"/>
              </a:rPr>
              <a:t>: fast, cheap</a:t>
            </a:r>
            <a:endParaRPr b="0" lang="en-US" sz="32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e likely presence of toxin</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sensitive but not specific</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known as “screening” tes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firmatory Tests for Toxins</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expensive, take ti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sensitive &amp; very specifi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ff"/>
                </a:solidFill>
                <a:latin typeface="Tahoma"/>
              </a:rPr>
              <a:t>can identify the substance to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the exclusion of all oth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esumptive tests</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r tests</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unoassays</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LC = thin layer chromatography</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C = gas chromatography</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V = ultraviolet l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lor tests</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gent is added to the substanc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color chan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for detection of LSD,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mmunoassays</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an antigen-antibody respon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gen = substance in ques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ody = testing reagen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clumping occurs, the substance is pres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in layer chromatography</a:t>
            </a:r>
            <a:br>
              <a:rPr sz="4000"/>
            </a:b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209" name="PlaceHolder 2"/>
          <p:cNvSpPr>
            <a:spLocks noGrp="1"/>
          </p:cNvSpPr>
          <p:nvPr>
            <p:ph/>
          </p:nvPr>
        </p:nvSpPr>
        <p:spPr>
          <a:xfrm>
            <a:off x="456840" y="1066680"/>
            <a:ext cx="4343400" cy="453096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compounds based on how far they move when combined w/ a solvent</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your unknown to known standards</a:t>
            </a:r>
            <a:endParaRPr b="0" lang="en-US" sz="3200" spc="-1" strike="noStrike">
              <a:solidFill>
                <a:srgbClr val="ffffff"/>
              </a:solidFill>
              <a:latin typeface="Tahoma"/>
            </a:endParaRPr>
          </a:p>
        </p:txBody>
      </p:sp>
      <p:pic>
        <p:nvPicPr>
          <p:cNvPr id="210" name="Picture 4" descr="chromatoghrphy"/>
          <p:cNvPicPr/>
          <p:nvPr/>
        </p:nvPicPr>
        <p:blipFill>
          <a:blip r:embed="rId1"/>
          <a:srcRect l="0" t="48892" r="0" b="0"/>
          <a:stretch/>
        </p:blipFill>
        <p:spPr>
          <a:xfrm>
            <a:off x="4495680" y="274320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bbd71"/>
                </a:solidFill>
                <a:uFillTx/>
                <a:latin typeface="Arial"/>
              </a:rPr>
              <a:t>Examples</a:t>
            </a:r>
            <a:r>
              <a:rPr b="0" lang="en-US" sz="4400" spc="-1" strike="noStrike">
                <a:solidFill>
                  <a:srgbClr val="dbbd71"/>
                </a:solidFill>
                <a:latin typeface="Arial"/>
              </a:rPr>
              <a:t> of services are:</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ing cocaine, heroin, marijuana seizures for city and town police department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ng prescription drugs from hospital pharmacies to detect substitution.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ing over-the-counter drugs and alcohol products to detect tampering, including dilution or poisons</a:t>
            </a: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as chromatography  </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compounds by size, shape, chemical proper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ies class of toxin, but does not make an exact identific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ltraviolet light</a:t>
            </a: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compounds absorb or reflect light in different amounts and at different waveleng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t of light absorbed/reflected indicates the concentration of the tox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firmatory tests</a:t>
            </a:r>
            <a:endParaRPr b="0" lang="en-US" sz="44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itive and specific</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dentify to the exclusion of all ot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mportant:  GC/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s chromatograph/mass spectrometry machi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s chromatograph- separates the sample into compon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Spectrometer- identifies the compon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nterpreting the results</a:t>
            </a:r>
            <a:br>
              <a:rPr sz="4000"/>
            </a:br>
            <a:r>
              <a:rPr b="0" lang="en-US" sz="4000" spc="-1" strike="noStrike">
                <a:solidFill>
                  <a:srgbClr val="dbbd71"/>
                </a:solidFill>
                <a:latin typeface="Arial"/>
              </a:rPr>
              <a:t>of toxicology tests</a:t>
            </a:r>
            <a:endParaRPr b="0" lang="en-US" sz="4000" spc="-1" strike="noStrike">
              <a:solidFill>
                <a:srgbClr val="dbbd71"/>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he toxins presen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how the toxins were administer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 concentrations of the toxi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the concentration affect behavi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the concentration play a role in the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oxins can be:</a:t>
            </a: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gested </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haled</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jected into muscles</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t into the into the bloodstream through an 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gested</a:t>
            </a:r>
            <a:endParaRPr b="0" lang="en-US" sz="4400" spc="-1" strike="noStrike">
              <a:solidFill>
                <a:srgbClr val="dbbd71"/>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are ingested will be found in the stomach, intestines, and liv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are inhaled will be found in the lung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are injected will be found in tissues near the injection site. The toxins are slowly picked up by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V (intravenous)</a:t>
            </a:r>
            <a:endParaRPr b="0" lang="en-US" sz="4400" spc="-1" strike="noStrike">
              <a:solidFill>
                <a:srgbClr val="dbbd71"/>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enter through an IV will bypass the stomach and liver.</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toxin will be found at the injection site</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will move through the body quickly</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concentrations of the toxin will be found in the blood and tissues.</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 concentrations will be found in the stomach and liver.</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oxicity affected by </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x</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y size/weigh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tic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tri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Heal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cute versus chronic</a:t>
            </a:r>
            <a:endParaRPr b="0" lang="en-US" sz="4400" spc="-1" strike="noStrike">
              <a:solidFill>
                <a:srgbClr val="dbbd71"/>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ute poisoning</a:t>
            </a:r>
            <a:r>
              <a:rPr b="0" lang="en-US" sz="3200" spc="-1" strike="noStrike">
                <a:solidFill>
                  <a:srgbClr val="ffffff"/>
                </a:solidFill>
                <a:latin typeface="Tahoma"/>
              </a:rPr>
              <a:t> – quick but inten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x. cyan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hronic poisoning</a:t>
            </a:r>
            <a:r>
              <a:rPr b="0" lang="en-US" sz="3200" spc="-1" strike="noStrike">
                <a:solidFill>
                  <a:srgbClr val="ffffff"/>
                </a:solidFill>
                <a:latin typeface="Tahoma"/>
              </a:rPr>
              <a:t>– drawn out in small do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x. Low doses of arsenic or thalliu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Job of Toxicologist</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a toxin (poison)</a:t>
            </a: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likely effect on the individu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gree of Toxicity depends on:</a:t>
            </a:r>
            <a:endParaRPr b="0" lang="en-US" sz="28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uch enters the body</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ver what period of time</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factors, depending upon the individual </a:t>
            </a:r>
            <a:endParaRPr b="0" lang="en-US" sz="20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dy size</a:t>
            </a:r>
            <a:endParaRPr b="0" lang="en-US" sz="18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ge</a:t>
            </a:r>
            <a:endParaRPr b="0" lang="en-US" sz="18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lerance</a:t>
            </a:r>
            <a:endParaRPr b="0" lang="en-US" sz="18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health of immune system</a:t>
            </a:r>
            <a:endParaRPr b="0" lang="en-US" sz="1800" spc="-1" strike="noStrike">
              <a:solidFill>
                <a:srgbClr val="ffffff"/>
              </a:solidFill>
              <a:latin typeface="Tahoma"/>
            </a:endParaRPr>
          </a:p>
          <a:p>
            <a:pPr lvl="2" marL="1371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ir</a:t>
            </a:r>
            <a:endParaRPr b="0" lang="en-US" sz="4400" spc="-1" strike="noStrike">
              <a:solidFill>
                <a:srgbClr val="dbbd71"/>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eals exposure to toxin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eals timel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ir grows ½ inch per month</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bert Cur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 Analysis Laboratories.do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lcohol</a:t>
            </a:r>
            <a:endParaRPr b="0" lang="en-US" sz="4400" spc="-1" strike="noStrike">
              <a:solidFill>
                <a:srgbClr val="dbbd71"/>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od alcohol levels</a:t>
            </a:r>
            <a:endParaRPr b="0" lang="en-US" sz="32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 grams of alcohol in every 100 ml of blood</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 – legal lim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 alcohol levels</a:t>
            </a:r>
            <a:endParaRPr b="0" lang="en-US" sz="4400" spc="-1" strike="noStrike">
              <a:solidFill>
                <a:srgbClr val="dbbd71"/>
              </a:solidFill>
              <a:latin typeface="Arial"/>
            </a:endParaRPr>
          </a:p>
        </p:txBody>
      </p:sp>
      <p:graphicFrame>
        <p:nvGraphicFramePr>
          <p:cNvPr id="236" name=""/>
          <p:cNvGraphicFramePr/>
          <p:nvPr/>
        </p:nvGraphicFramePr>
        <p:xfrm>
          <a:off x="457200" y="1600200"/>
          <a:ext cx="8229600" cy="4562640"/>
        </p:xfrm>
        <a:graphic>
          <a:graphicData uri="http://schemas.openxmlformats.org/drawingml/2006/table">
            <a:tbl>
              <a:tblPr/>
              <a:tblGrid>
                <a:gridCol w="2057400"/>
                <a:gridCol w="6172200"/>
              </a:tblGrid>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K</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3-0.08</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e coordination, judgmen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2</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mi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25</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a</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3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ep coma</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aluation </a:t>
            </a:r>
            <a:endParaRPr b="0" lang="en-US" sz="4400" spc="-1" strike="noStrike">
              <a:solidFill>
                <a:srgbClr val="dbbd71"/>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eld sobriety tes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athalyzer</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od tes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ennsylvania DUI Laws</a:t>
            </a:r>
            <a:endParaRPr b="0" lang="en-US" sz="4400" spc="-1" strike="noStrike">
              <a:solidFill>
                <a:srgbClr val="dbbd71"/>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1800dialdui.com/CM/DUIDWILaws/DUIDWILaws-Pennsylvania-DUI-Laws-Penalties.asp</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A</a:t>
            </a:r>
            <a:endParaRPr b="0" lang="en-US" sz="4400" spc="-1" strike="noStrike">
              <a:solidFill>
                <a:srgbClr val="dbbd7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 Enforcement Agenc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vision of the Department of Justic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DA – National Institute on Drug Ab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STATISTICS:</a:t>
            </a:r>
            <a:endParaRPr b="0" lang="en-US" sz="4400" spc="-1" strike="noStrike">
              <a:solidFill>
                <a:srgbClr val="dbbd71"/>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usdoj.gov/dea/statistics.html#arres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Charges </a:t>
            </a:r>
            <a:endParaRPr b="0" lang="en-US" sz="4400" spc="-1" strike="noStrike">
              <a:solidFill>
                <a:srgbClr val="dbbd71"/>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ly charges depend critically on the quantity and quality of the drug found. </a:t>
            </a:r>
            <a:endParaRPr b="0" lang="en-US" sz="3200" spc="-1" strike="noStrike">
              <a:solidFill>
                <a:srgbClr val="ffffff"/>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ne typical case involving herbal cannabis, the charge related to possession of about a kilo of the stuff which it was alleged was intended for supply, and likely to command a price of at least £3,000. </a:t>
            </a: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etailed examination of the material showed that the cannabis was mainly leaf with little or no evidence of flowering tops - where the vast majority of the active ingredients of cannabis reside. It was therefore debatable whether the material had any realistic sale value at all. This was accepted by the prosecution's scientist and the charge of supply, droppe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Penalties</a:t>
            </a:r>
            <a:endParaRPr b="0" lang="en-US" sz="4400" spc="-1" strike="noStrike">
              <a:solidFill>
                <a:srgbClr val="dbbd71"/>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ennsylvania-criminal-defense.com/drugpossession.ht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s are “scheduled”</a:t>
            </a:r>
            <a:endParaRPr b="0" lang="en-US" sz="4400" spc="-1" strike="noStrike">
              <a:solidFill>
                <a:srgbClr val="dbbd71"/>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IVE schedules in which the DEA classifies drugs, according to their medicinal uses and potential addic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Controlled Substance A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toxicant vs poison</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oxicant -  alcohol: need lots of it to be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leth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ison – need small amts to be leth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 - </a:t>
            </a:r>
            <a:endParaRPr b="0" lang="en-US" sz="4400" spc="-1" strike="noStrike">
              <a:solidFill>
                <a:srgbClr val="dbbd71"/>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high potential for abus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no currently accepted medical use in treatment in the United Sta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There is a lack of accepted safety for use of the drug or other substance under medical supervi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Schedule I drugs:</a:t>
            </a:r>
            <a:endParaRPr b="0" lang="en-US" sz="4400" spc="-1" strike="noStrike">
              <a:solidFill>
                <a:srgbClr val="dbbd71"/>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oi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ijua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yo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scal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ysergic acid diethylamide (LS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I. - </a:t>
            </a:r>
            <a:endParaRPr b="0" lang="en-US" sz="4400" spc="-1" strike="noStrike">
              <a:solidFill>
                <a:srgbClr val="dbbd71"/>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high potential for abus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 or a currently accepted medical use with severe restrictio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s may lead to severe psychological or physical depend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Schedule II drugs:</a:t>
            </a:r>
            <a:endParaRPr b="0" lang="en-US" sz="4400" spc="-1" strike="noStrike">
              <a:solidFill>
                <a:srgbClr val="dbbd71"/>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iu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ca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ado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jectable liquid Methamphetami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II. - </a:t>
            </a:r>
            <a:endParaRPr b="0" lang="en-US" sz="4400" spc="-1" strike="noStrike">
              <a:solidFill>
                <a:srgbClr val="dbbd71"/>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potential for abuse less than the drugs or other substances in schedules I and II.</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 may lead to moderate or low physical dependence or high psychological depend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Schedule III drugs:</a:t>
            </a:r>
            <a:endParaRPr b="0" lang="en-US" sz="4400" spc="-1" strike="noStrike">
              <a:solidFill>
                <a:srgbClr val="dbbd71"/>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liquid methamphetamin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biturat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ances containing limited amounts of codeine, opium, and morph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bolic steroi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V. - </a:t>
            </a:r>
            <a:endParaRPr b="0" lang="en-US" sz="4400" spc="-1" strike="noStrike">
              <a:solidFill>
                <a:srgbClr val="dbbd71"/>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low potential for abuse relative to the drugs or other substances in schedule III.</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 may lead to limited physical dependence or psychological dependence relative to the drugs or other substances in schedule II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V. - </a:t>
            </a:r>
            <a:endParaRPr b="0" lang="en-US" sz="4400" spc="-1" strike="noStrike">
              <a:solidFill>
                <a:srgbClr val="dbbd71"/>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low potential for abuse relative to the drugs or other substances in schedule IV.</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 may lead to limited physical dependence or psychological dependence relative to the drugs or other substances in schedule IV.</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ir Testing for Drug Use</a:t>
            </a:r>
            <a:endParaRPr b="0" lang="en-US" sz="4400" spc="-1" strike="noStrike">
              <a:solidFill>
                <a:srgbClr val="dbbd71"/>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the past two years, the popularity of hair analysis for drugs has risen significantly, especially for pre-employment drug testing. This is due in large part to hair's outstanding immunity to alterations and longer detection times for drugs. </a:t>
            </a:r>
            <a:br>
              <a:rPr sz="3200"/>
            </a:br>
            <a:br>
              <a:rPr sz="3200"/>
            </a:br>
            <a:r>
              <a:rPr b="0" lang="en-US" sz="3200" spc="-1" strike="noStrike">
                <a:solidFill>
                  <a:srgbClr val="ffffff"/>
                </a:solidFill>
                <a:latin typeface="Tahoma"/>
              </a:rPr>
              <a:t>1.0 cm of hair = 1 month detection time for drug(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me Drug Tests</a:t>
            </a:r>
            <a:endParaRPr b="0" lang="en-US" sz="4400" spc="-1" strike="noStrike">
              <a:solidFill>
                <a:srgbClr val="dbbd71"/>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e Drug Tes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estsymptomsathome.com/fs_dru0.asp?portalid=GOT&amp;OVRAW=drug%20analysis&amp;OVKEY=drug%20analysis&amp;OVMTC=standa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ight dose/wrong dose</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a:t>
            </a:r>
            <a:br>
              <a:rPr sz="3200"/>
            </a:b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is- common cardiac medicin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ght dose… helps regulate heart rhythm</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ong dose (high)-irregular heartbe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eads to nausea, vomiting, deat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info…</a:t>
            </a:r>
            <a:endParaRPr b="0" lang="en-US" sz="4400" spc="-1" strike="noStrike">
              <a:solidFill>
                <a:srgbClr val="dbbd71"/>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HB &amp; Ketamine – the Date Rape drugs http://www.nida.nih.gov/Testimony/3-11-99Testimony.htm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yote - http://www.nida.nih.gov/Testimony/3-11-99Testimony.htm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tamine - http://www.drugfree.org/Portal/drug_guide/Ketami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 by name -</a:t>
            </a:r>
            <a:r>
              <a:rPr b="0" lang="en-US" sz="2800" spc="-1" strike="noStrike" u="sng">
                <a:solidFill>
                  <a:srgbClr val="ffffff"/>
                </a:solidFill>
                <a:uFillTx/>
                <a:latin typeface="Tahoma"/>
              </a:rPr>
              <a:t>http://www.drugfree.org/Portal/drug_guide/ByNam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utopsy</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not always visibly evident in organs or tissu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collect and analyze body flui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s time (weeks/month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tals</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excess, these metals can be harmful/fatal</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ron</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ercury</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ead</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pper</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et samples from:</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chemicals enter the body</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blood, injection sites, stomach</a:t>
            </a:r>
            <a:endParaRPr b="0" lang="en-US" sz="28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chemicals concentrate in the body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iver, brain, hair, vitreous humor</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ute of elimination for the chemical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ur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9:40:20Z</dcterms:created>
  <dc:creator>bernie.kozlowski</dc:creator>
  <dc:description/>
  <dc:language>en-US</dc:language>
  <cp:lastModifiedBy> </cp:lastModifiedBy>
  <dcterms:modified xsi:type="dcterms:W3CDTF">2009-02-11T17:11:39Z</dcterms:modified>
  <cp:revision>35</cp:revision>
  <dc:subject/>
  <dc:title>Slide 1</dc:title>
</cp:coreProperties>
</file>